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499F-6079-4CF3-B67A-812D61D5D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F2CE-9A35-4687-8F5B-F849F4247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5EBD-BCE9-4660-9E23-883DB4F06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1494-BD61-4A8A-9654-05B5C71F2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9B84-018E-41CB-82D6-DCC668BC1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C91C-93F1-4C76-BEAA-C256A3053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D80D-EF45-4737-90C0-75B93D1CF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1D09-CB68-4A45-852D-9A0C92873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8C7D-62C0-4614-9365-15EBD9EBC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B2B7-8FC2-4BE2-A7C9-48C79FD2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5B80-E97A-4EA2-AE42-03AA54706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8D19-1226-4DC8-91B8-A4B8D5255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C7871-E436-43B2-880A-E840DBD54E34}" type="slidenum"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643120"/>
            <a:ext cx="9144000" cy="147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ffff"/>
                </a:solidFill>
                <a:latin typeface="Verdana"/>
              </a:rPr>
              <a:t>ACIDS &amp; BA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bases contain hydroxide ions: 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bases: baking soda, soap, antaci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queous solutions of bases conduct electricity because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ssoci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bases are safe to consume or be in contact with.  Others are corrosive &amp; dangero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s have a bitter taste &amp; slippery fe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itle 1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Verdana"/>
              </a:rPr>
              <a:t>B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1829160" y="2362320"/>
            <a:ext cx="19119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aO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Verdana"/>
              </a:rPr>
              <a:t>(aq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3"/>
          <p:cNvSpPr/>
          <p:nvPr/>
        </p:nvSpPr>
        <p:spPr>
          <a:xfrm>
            <a:off x="2759040" y="3005280"/>
            <a:ext cx="0" cy="255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838080" y="59436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Sodium hydr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457200" y="685800"/>
            <a:ext cx="84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6342120" y="2286000"/>
            <a:ext cx="2344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aHC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Verdana"/>
              </a:rPr>
              <a:t>3(aq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6873840" y="3005280"/>
            <a:ext cx="0" cy="255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4724280" y="59436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Sodium bicarbo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itle 1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Verdana"/>
              </a:rPr>
              <a:t>NAMING B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-280080" y="1676520"/>
            <a:ext cx="48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What are the ru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5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560" y="66348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Verdana"/>
              </a:rPr>
              <a:t>COMMON B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0" y="1827360"/>
            <a:ext cx="890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same rules as for ionic comp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0" y="2595600"/>
          <a:ext cx="9144000" cy="3179880"/>
        </p:xfrm>
        <a:graphic>
          <a:graphicData uri="http://schemas.openxmlformats.org/drawingml/2006/table">
            <a:tbl>
              <a:tblPr/>
              <a:tblGrid>
                <a:gridCol w="2362320"/>
                <a:gridCol w="2895480"/>
                <a:gridCol w="38862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emical formula in solution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a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se anion nam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a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emical Nam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ac"/>
                    </a:solidFill>
                  </a:tcPr>
                </a:tc>
              </a:tr>
              <a:tr h="61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O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aq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ydr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dium hydr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8c8"/>
                    </a:solidFill>
                  </a:tcPr>
                </a:tc>
              </a:tr>
              <a:tr h="61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g(OH)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(aq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ydr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gnesium hydr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8c8"/>
                    </a:solidFill>
                  </a:tcPr>
                </a:tc>
              </a:tr>
              <a:tr h="620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(OH)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(aq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ydr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cium hydr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8c8"/>
                    </a:solidFill>
                  </a:tcPr>
                </a:tc>
              </a:tr>
              <a:tr h="61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HC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(aq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icarbon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dium bicarbon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ef8c8"/>
                    </a:solidFill>
                  </a:tcPr>
                </a:tc>
              </a:tr>
            </a:tbl>
          </a:graphicData>
        </a:graphic>
      </p:graphicFrame>
      <p:sp>
        <p:nvSpPr>
          <p:cNvPr id="128" name="Title 1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Verdana"/>
              </a:rPr>
              <a:t>NAMING B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31"/>
          <p:cNvSpPr/>
          <p:nvPr/>
        </p:nvSpPr>
        <p:spPr>
          <a:xfrm>
            <a:off x="7122960" y="990720"/>
            <a:ext cx="420840" cy="609480"/>
          </a:xfrm>
          <a:custGeom>
            <a:avLst/>
            <a:gdLst>
              <a:gd name="textAreaLeft" fmla="*/ 0 w 420840"/>
              <a:gd name="textAreaRight" fmla="*/ 421200 w 42084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728" h="1056">
                <a:moveTo>
                  <a:pt x="288" y="496"/>
                </a:moveTo>
                <a:cubicBezTo>
                  <a:pt x="296" y="472"/>
                  <a:pt x="192" y="288"/>
                  <a:pt x="192" y="208"/>
                </a:cubicBezTo>
                <a:cubicBezTo>
                  <a:pt x="192" y="128"/>
                  <a:pt x="256" y="0"/>
                  <a:pt x="288" y="16"/>
                </a:cubicBezTo>
                <a:cubicBezTo>
                  <a:pt x="320" y="32"/>
                  <a:pt x="368" y="216"/>
                  <a:pt x="384" y="304"/>
                </a:cubicBezTo>
                <a:cubicBezTo>
                  <a:pt x="400" y="392"/>
                  <a:pt x="344" y="552"/>
                  <a:pt x="384" y="544"/>
                </a:cubicBezTo>
                <a:cubicBezTo>
                  <a:pt x="424" y="536"/>
                  <a:pt x="576" y="272"/>
                  <a:pt x="624" y="256"/>
                </a:cubicBezTo>
                <a:cubicBezTo>
                  <a:pt x="672" y="240"/>
                  <a:pt x="704" y="384"/>
                  <a:pt x="672" y="448"/>
                </a:cubicBezTo>
                <a:cubicBezTo>
                  <a:pt x="640" y="512"/>
                  <a:pt x="424" y="560"/>
                  <a:pt x="432" y="640"/>
                </a:cubicBezTo>
                <a:cubicBezTo>
                  <a:pt x="440" y="720"/>
                  <a:pt x="728" y="864"/>
                  <a:pt x="720" y="928"/>
                </a:cubicBezTo>
                <a:cubicBezTo>
                  <a:pt x="712" y="992"/>
                  <a:pt x="448" y="1056"/>
                  <a:pt x="384" y="1024"/>
                </a:cubicBezTo>
                <a:cubicBezTo>
                  <a:pt x="320" y="992"/>
                  <a:pt x="384" y="760"/>
                  <a:pt x="336" y="736"/>
                </a:cubicBezTo>
                <a:cubicBezTo>
                  <a:pt x="288" y="712"/>
                  <a:pt x="144" y="888"/>
                  <a:pt x="96" y="880"/>
                </a:cubicBezTo>
                <a:cubicBezTo>
                  <a:pt x="48" y="872"/>
                  <a:pt x="40" y="728"/>
                  <a:pt x="48" y="688"/>
                </a:cubicBezTo>
                <a:cubicBezTo>
                  <a:pt x="56" y="648"/>
                  <a:pt x="152" y="664"/>
                  <a:pt x="144" y="640"/>
                </a:cubicBezTo>
                <a:cubicBezTo>
                  <a:pt x="136" y="616"/>
                  <a:pt x="0" y="592"/>
                  <a:pt x="0" y="544"/>
                </a:cubicBezTo>
                <a:cubicBezTo>
                  <a:pt x="0" y="496"/>
                  <a:pt x="96" y="360"/>
                  <a:pt x="144" y="352"/>
                </a:cubicBezTo>
                <a:cubicBezTo>
                  <a:pt x="192" y="344"/>
                  <a:pt x="280" y="520"/>
                  <a:pt x="288" y="496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32"/>
          <p:cNvSpPr/>
          <p:nvPr/>
        </p:nvSpPr>
        <p:spPr>
          <a:xfrm>
            <a:off x="1600200" y="1143000"/>
            <a:ext cx="339840" cy="343080"/>
          </a:xfrm>
          <a:custGeom>
            <a:avLst/>
            <a:gdLst>
              <a:gd name="textAreaLeft" fmla="*/ 0 w 339840"/>
              <a:gd name="textAreaRight" fmla="*/ 340200 w 339840"/>
              <a:gd name="textAreaTop" fmla="*/ 0 h 343080"/>
              <a:gd name="textAreaBottom" fmla="*/ 343440 h 343080"/>
            </a:gdLst>
            <a:ahLst/>
            <a:rect l="textAreaLeft" t="textAreaTop" r="textAreaRight" b="textAreaBottom"/>
            <a:pathLst>
              <a:path w="2112" h="2120">
                <a:moveTo>
                  <a:pt x="856" y="800"/>
                </a:moveTo>
                <a:cubicBezTo>
                  <a:pt x="744" y="840"/>
                  <a:pt x="584" y="360"/>
                  <a:pt x="472" y="320"/>
                </a:cubicBezTo>
                <a:cubicBezTo>
                  <a:pt x="360" y="280"/>
                  <a:pt x="160" y="456"/>
                  <a:pt x="184" y="560"/>
                </a:cubicBezTo>
                <a:cubicBezTo>
                  <a:pt x="208" y="664"/>
                  <a:pt x="640" y="792"/>
                  <a:pt x="616" y="944"/>
                </a:cubicBezTo>
                <a:cubicBezTo>
                  <a:pt x="592" y="1096"/>
                  <a:pt x="80" y="1344"/>
                  <a:pt x="40" y="1472"/>
                </a:cubicBezTo>
                <a:cubicBezTo>
                  <a:pt x="0" y="1600"/>
                  <a:pt x="256" y="1768"/>
                  <a:pt x="376" y="1712"/>
                </a:cubicBezTo>
                <a:cubicBezTo>
                  <a:pt x="496" y="1656"/>
                  <a:pt x="624" y="1080"/>
                  <a:pt x="760" y="1136"/>
                </a:cubicBezTo>
                <a:cubicBezTo>
                  <a:pt x="896" y="1192"/>
                  <a:pt x="1032" y="1976"/>
                  <a:pt x="1192" y="2048"/>
                </a:cubicBezTo>
                <a:cubicBezTo>
                  <a:pt x="1352" y="2120"/>
                  <a:pt x="1736" y="1720"/>
                  <a:pt x="1720" y="1568"/>
                </a:cubicBezTo>
                <a:cubicBezTo>
                  <a:pt x="1704" y="1416"/>
                  <a:pt x="1056" y="1200"/>
                  <a:pt x="1096" y="1136"/>
                </a:cubicBezTo>
                <a:cubicBezTo>
                  <a:pt x="1136" y="1072"/>
                  <a:pt x="1816" y="1240"/>
                  <a:pt x="1960" y="1184"/>
                </a:cubicBezTo>
                <a:cubicBezTo>
                  <a:pt x="2104" y="1128"/>
                  <a:pt x="2112" y="848"/>
                  <a:pt x="1960" y="800"/>
                </a:cubicBezTo>
                <a:cubicBezTo>
                  <a:pt x="1808" y="752"/>
                  <a:pt x="1128" y="976"/>
                  <a:pt x="1048" y="896"/>
                </a:cubicBezTo>
                <a:cubicBezTo>
                  <a:pt x="968" y="816"/>
                  <a:pt x="1464" y="456"/>
                  <a:pt x="1480" y="320"/>
                </a:cubicBezTo>
                <a:cubicBezTo>
                  <a:pt x="1496" y="184"/>
                  <a:pt x="1240" y="0"/>
                  <a:pt x="1144" y="80"/>
                </a:cubicBezTo>
                <a:cubicBezTo>
                  <a:pt x="1048" y="160"/>
                  <a:pt x="968" y="760"/>
                  <a:pt x="856" y="800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3"/>
          <p:cNvSpPr/>
          <p:nvPr/>
        </p:nvSpPr>
        <p:spPr>
          <a:xfrm>
            <a:off x="1371600" y="213372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sodium hydrox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4"/>
          <p:cNvSpPr/>
          <p:nvPr/>
        </p:nvSpPr>
        <p:spPr>
          <a:xfrm flipH="1">
            <a:off x="3886200" y="2819520"/>
            <a:ext cx="1905120" cy="15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5"/>
          <p:cNvSpPr/>
          <p:nvPr/>
        </p:nvSpPr>
        <p:spPr>
          <a:xfrm>
            <a:off x="4116240" y="2819520"/>
            <a:ext cx="1903680" cy="14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4800600" y="449568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OH</a:t>
            </a:r>
            <a:r>
              <a:rPr b="1" lang="en-US" sz="4800" spc="-1" strike="noStrike" baseline="30000">
                <a:solidFill>
                  <a:srgbClr val="000000"/>
                </a:solidFill>
                <a:latin typeface="Verdana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2438280" y="449568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N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3595320" y="42624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5951160" y="42908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3765960" y="42768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1"/>
          <p:cNvSpPr/>
          <p:nvPr/>
        </p:nvSpPr>
        <p:spPr>
          <a:xfrm>
            <a:off x="6084000" y="42768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2362320" y="5805360"/>
            <a:ext cx="52578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Verdana"/>
              </a:rPr>
              <a:t>= NaOH</a:t>
            </a:r>
            <a:r>
              <a:rPr b="1" lang="en-US" sz="4800" spc="-1" strike="noStrike" baseline="-25000">
                <a:solidFill>
                  <a:srgbClr val="ff0000"/>
                </a:solidFill>
                <a:latin typeface="Verdana"/>
              </a:rPr>
              <a:t>(aq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itle 1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Verdana"/>
              </a:rPr>
              <a:t>NAMING B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-291960" y="990720"/>
            <a:ext cx="798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1) Writing the chemical formul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6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2.48555E-006 L 0.34965 0.10659 E">
                                      <p:cBhvr>
                                        <p:cTn id="240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33526E-006 L -0.21632 0.10243 E">
                                      <p:cBhvr>
                                        <p:cTn id="244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compounds that produce hydrogen ions in solution: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acids: citric acid, vineg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queous solutions of acids conduct electricity because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oniz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acids are corrosive &amp; react with met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ids have a sour tas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itle 1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Verdana"/>
              </a:rPr>
              <a:t>AC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1830240" y="2362320"/>
            <a:ext cx="1954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S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Verdana"/>
              </a:rPr>
              <a:t>4(aq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3"/>
          <p:cNvSpPr/>
          <p:nvPr/>
        </p:nvSpPr>
        <p:spPr>
          <a:xfrm>
            <a:off x="2759040" y="3005280"/>
            <a:ext cx="0" cy="255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1371600" y="5943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Sulfuric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1066680" y="6400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XY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457200" y="685800"/>
            <a:ext cx="84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6054120" y="2286000"/>
            <a:ext cx="16376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HCl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Verdana"/>
              </a:rPr>
              <a:t>(aq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9"/>
          <p:cNvSpPr/>
          <p:nvPr/>
        </p:nvSpPr>
        <p:spPr>
          <a:xfrm>
            <a:off x="6873840" y="3005280"/>
            <a:ext cx="0" cy="255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5029200" y="59436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Hydrochloric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5181480" y="6400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INARY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itle 1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Verdana"/>
              </a:rPr>
              <a:t>NAMING AC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-280080" y="1676520"/>
            <a:ext cx="48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What are the ru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5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560" y="66348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Verdana"/>
              </a:rPr>
              <a:t>BINARY AC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0" y="1827360"/>
            <a:ext cx="890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composed of hydrogen + a non-me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0" y="2595600"/>
          <a:ext cx="9144000" cy="3179880"/>
        </p:xfrm>
        <a:graphic>
          <a:graphicData uri="http://schemas.openxmlformats.org/drawingml/2006/table">
            <a:tbl>
              <a:tblPr/>
              <a:tblGrid>
                <a:gridCol w="2362320"/>
                <a:gridCol w="2895480"/>
                <a:gridCol w="38862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emical formula in solution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a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id anion nam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a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ical Acid Nam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ac"/>
                    </a:solidFill>
                  </a:tcPr>
                </a:tc>
              </a:tr>
              <a:tr h="61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F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aq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luor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ydrofluoric ac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8c8"/>
                    </a:solidFill>
                  </a:tcPr>
                </a:tc>
              </a:tr>
              <a:tr h="61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Cl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aq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lor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ydrochloric ac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8c8"/>
                    </a:solidFill>
                  </a:tcPr>
                </a:tc>
              </a:tr>
              <a:tr h="620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Br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aq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rom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ydrobromic ac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8c8"/>
                    </a:solidFill>
                  </a:tcPr>
                </a:tc>
              </a:tr>
              <a:tr h="61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aq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od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ydroiodic ac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ef8c8"/>
                    </a:solidFill>
                  </a:tcPr>
                </a:tc>
              </a:tr>
            </a:tbl>
          </a:graphicData>
        </a:graphic>
      </p:graphicFrame>
      <p:sp>
        <p:nvSpPr>
          <p:cNvPr id="59" name="Title 1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Verdana"/>
              </a:rPr>
              <a:t>NAMING AC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31"/>
          <p:cNvSpPr/>
          <p:nvPr/>
        </p:nvSpPr>
        <p:spPr>
          <a:xfrm>
            <a:off x="6970680" y="990720"/>
            <a:ext cx="420840" cy="609480"/>
          </a:xfrm>
          <a:custGeom>
            <a:avLst/>
            <a:gdLst>
              <a:gd name="textAreaLeft" fmla="*/ 0 w 420840"/>
              <a:gd name="textAreaRight" fmla="*/ 421200 w 42084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728" h="1056">
                <a:moveTo>
                  <a:pt x="288" y="496"/>
                </a:moveTo>
                <a:cubicBezTo>
                  <a:pt x="296" y="472"/>
                  <a:pt x="192" y="288"/>
                  <a:pt x="192" y="208"/>
                </a:cubicBezTo>
                <a:cubicBezTo>
                  <a:pt x="192" y="128"/>
                  <a:pt x="256" y="0"/>
                  <a:pt x="288" y="16"/>
                </a:cubicBezTo>
                <a:cubicBezTo>
                  <a:pt x="320" y="32"/>
                  <a:pt x="368" y="216"/>
                  <a:pt x="384" y="304"/>
                </a:cubicBezTo>
                <a:cubicBezTo>
                  <a:pt x="400" y="392"/>
                  <a:pt x="344" y="552"/>
                  <a:pt x="384" y="544"/>
                </a:cubicBezTo>
                <a:cubicBezTo>
                  <a:pt x="424" y="536"/>
                  <a:pt x="576" y="272"/>
                  <a:pt x="624" y="256"/>
                </a:cubicBezTo>
                <a:cubicBezTo>
                  <a:pt x="672" y="240"/>
                  <a:pt x="704" y="384"/>
                  <a:pt x="672" y="448"/>
                </a:cubicBezTo>
                <a:cubicBezTo>
                  <a:pt x="640" y="512"/>
                  <a:pt x="424" y="560"/>
                  <a:pt x="432" y="640"/>
                </a:cubicBezTo>
                <a:cubicBezTo>
                  <a:pt x="440" y="720"/>
                  <a:pt x="728" y="864"/>
                  <a:pt x="720" y="928"/>
                </a:cubicBezTo>
                <a:cubicBezTo>
                  <a:pt x="712" y="992"/>
                  <a:pt x="448" y="1056"/>
                  <a:pt x="384" y="1024"/>
                </a:cubicBezTo>
                <a:cubicBezTo>
                  <a:pt x="320" y="992"/>
                  <a:pt x="384" y="760"/>
                  <a:pt x="336" y="736"/>
                </a:cubicBezTo>
                <a:cubicBezTo>
                  <a:pt x="288" y="712"/>
                  <a:pt x="144" y="888"/>
                  <a:pt x="96" y="880"/>
                </a:cubicBezTo>
                <a:cubicBezTo>
                  <a:pt x="48" y="872"/>
                  <a:pt x="40" y="728"/>
                  <a:pt x="48" y="688"/>
                </a:cubicBezTo>
                <a:cubicBezTo>
                  <a:pt x="56" y="648"/>
                  <a:pt x="152" y="664"/>
                  <a:pt x="144" y="640"/>
                </a:cubicBezTo>
                <a:cubicBezTo>
                  <a:pt x="136" y="616"/>
                  <a:pt x="0" y="592"/>
                  <a:pt x="0" y="544"/>
                </a:cubicBezTo>
                <a:cubicBezTo>
                  <a:pt x="0" y="496"/>
                  <a:pt x="96" y="360"/>
                  <a:pt x="144" y="352"/>
                </a:cubicBezTo>
                <a:cubicBezTo>
                  <a:pt x="192" y="344"/>
                  <a:pt x="280" y="520"/>
                  <a:pt x="288" y="496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32"/>
          <p:cNvSpPr/>
          <p:nvPr/>
        </p:nvSpPr>
        <p:spPr>
          <a:xfrm>
            <a:off x="1752480" y="1143000"/>
            <a:ext cx="339840" cy="343080"/>
          </a:xfrm>
          <a:custGeom>
            <a:avLst/>
            <a:gdLst>
              <a:gd name="textAreaLeft" fmla="*/ 0 w 339840"/>
              <a:gd name="textAreaRight" fmla="*/ 340200 w 339840"/>
              <a:gd name="textAreaTop" fmla="*/ 0 h 343080"/>
              <a:gd name="textAreaBottom" fmla="*/ 343440 h 343080"/>
            </a:gdLst>
            <a:ahLst/>
            <a:rect l="textAreaLeft" t="textAreaTop" r="textAreaRight" b="textAreaBottom"/>
            <a:pathLst>
              <a:path w="2112" h="2120">
                <a:moveTo>
                  <a:pt x="856" y="800"/>
                </a:moveTo>
                <a:cubicBezTo>
                  <a:pt x="744" y="840"/>
                  <a:pt x="584" y="360"/>
                  <a:pt x="472" y="320"/>
                </a:cubicBezTo>
                <a:cubicBezTo>
                  <a:pt x="360" y="280"/>
                  <a:pt x="160" y="456"/>
                  <a:pt x="184" y="560"/>
                </a:cubicBezTo>
                <a:cubicBezTo>
                  <a:pt x="208" y="664"/>
                  <a:pt x="640" y="792"/>
                  <a:pt x="616" y="944"/>
                </a:cubicBezTo>
                <a:cubicBezTo>
                  <a:pt x="592" y="1096"/>
                  <a:pt x="80" y="1344"/>
                  <a:pt x="40" y="1472"/>
                </a:cubicBezTo>
                <a:cubicBezTo>
                  <a:pt x="0" y="1600"/>
                  <a:pt x="256" y="1768"/>
                  <a:pt x="376" y="1712"/>
                </a:cubicBezTo>
                <a:cubicBezTo>
                  <a:pt x="496" y="1656"/>
                  <a:pt x="624" y="1080"/>
                  <a:pt x="760" y="1136"/>
                </a:cubicBezTo>
                <a:cubicBezTo>
                  <a:pt x="896" y="1192"/>
                  <a:pt x="1032" y="1976"/>
                  <a:pt x="1192" y="2048"/>
                </a:cubicBezTo>
                <a:cubicBezTo>
                  <a:pt x="1352" y="2120"/>
                  <a:pt x="1736" y="1720"/>
                  <a:pt x="1720" y="1568"/>
                </a:cubicBezTo>
                <a:cubicBezTo>
                  <a:pt x="1704" y="1416"/>
                  <a:pt x="1056" y="1200"/>
                  <a:pt x="1096" y="1136"/>
                </a:cubicBezTo>
                <a:cubicBezTo>
                  <a:pt x="1136" y="1072"/>
                  <a:pt x="1816" y="1240"/>
                  <a:pt x="1960" y="1184"/>
                </a:cubicBezTo>
                <a:cubicBezTo>
                  <a:pt x="2104" y="1128"/>
                  <a:pt x="2112" y="848"/>
                  <a:pt x="1960" y="800"/>
                </a:cubicBezTo>
                <a:cubicBezTo>
                  <a:pt x="1808" y="752"/>
                  <a:pt x="1128" y="976"/>
                  <a:pt x="1048" y="896"/>
                </a:cubicBezTo>
                <a:cubicBezTo>
                  <a:pt x="968" y="816"/>
                  <a:pt x="1464" y="456"/>
                  <a:pt x="1480" y="320"/>
                </a:cubicBezTo>
                <a:cubicBezTo>
                  <a:pt x="1496" y="184"/>
                  <a:pt x="1240" y="0"/>
                  <a:pt x="1144" y="80"/>
                </a:cubicBezTo>
                <a:cubicBezTo>
                  <a:pt x="1048" y="160"/>
                  <a:pt x="968" y="760"/>
                  <a:pt x="856" y="800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3"/>
          <p:cNvSpPr/>
          <p:nvPr/>
        </p:nvSpPr>
        <p:spPr>
          <a:xfrm>
            <a:off x="1676520" y="2209680"/>
            <a:ext cx="60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hydrobromic ac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4"/>
          <p:cNvSpPr/>
          <p:nvPr/>
        </p:nvSpPr>
        <p:spPr>
          <a:xfrm flipH="1">
            <a:off x="3886200" y="2819520"/>
            <a:ext cx="1905120" cy="15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5"/>
          <p:cNvSpPr/>
          <p:nvPr/>
        </p:nvSpPr>
        <p:spPr>
          <a:xfrm>
            <a:off x="4116240" y="2819520"/>
            <a:ext cx="1903680" cy="14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4800600" y="449568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B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2438280" y="449568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3595320" y="42624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5951160" y="42908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3765960" y="42768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6084000" y="42768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2"/>
          <p:cNvSpPr/>
          <p:nvPr/>
        </p:nvSpPr>
        <p:spPr>
          <a:xfrm>
            <a:off x="2362320" y="5805360"/>
            <a:ext cx="52578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Verdana"/>
              </a:rPr>
              <a:t>= HBr</a:t>
            </a:r>
            <a:r>
              <a:rPr b="1" lang="en-US" sz="4800" spc="-1" strike="noStrike" baseline="-25000">
                <a:solidFill>
                  <a:srgbClr val="ff0000"/>
                </a:solidFill>
                <a:latin typeface="Verdana"/>
              </a:rPr>
              <a:t>(aq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itle 1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Verdana"/>
              </a:rPr>
              <a:t>NAMING AC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5"/>
          <p:cNvSpPr/>
          <p:nvPr/>
        </p:nvSpPr>
        <p:spPr>
          <a:xfrm>
            <a:off x="-291960" y="990720"/>
            <a:ext cx="798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2) Writing the chemical formul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6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2.48555E-006 L 0.34965 0.10659 E">
                                      <p:cBhvr>
                                        <p:cTn id="80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33526E-006 L -0.21632 0.10243 E">
                                      <p:cBhvr>
                                        <p:cTn id="84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66348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Verdana"/>
              </a:rPr>
              <a:t>OXOAC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0" y="1827360"/>
            <a:ext cx="890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composed of hydrogen, oxygen, and another el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0" y="2595600"/>
          <a:ext cx="9144000" cy="3179880"/>
        </p:xfrm>
        <a:graphic>
          <a:graphicData uri="http://schemas.openxmlformats.org/drawingml/2006/table">
            <a:tbl>
              <a:tblPr/>
              <a:tblGrid>
                <a:gridCol w="2362320"/>
                <a:gridCol w="2895480"/>
                <a:gridCol w="38862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lyatomic ion nam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a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id anion nam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a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ac"/>
                    </a:solidFill>
                  </a:tcPr>
                </a:tc>
              </a:tr>
              <a:tr h="61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lf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lfur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lfuric ac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8c8"/>
                    </a:solidFill>
                  </a:tcPr>
                </a:tc>
              </a:tr>
              <a:tr h="61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lor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lor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Cl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chloric ac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8c8"/>
                    </a:solidFill>
                  </a:tcPr>
                </a:tc>
              </a:tr>
              <a:tr h="620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rbon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rbon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carbonic ac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8c8"/>
                    </a:solidFill>
                  </a:tcPr>
                </a:tc>
              </a:tr>
              <a:tr h="61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sph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sphor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phosphoric ac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ef8c8"/>
                    </a:solidFill>
                  </a:tcPr>
                </a:tc>
              </a:tr>
            </a:tbl>
          </a:graphicData>
        </a:graphic>
      </p:graphicFrame>
      <p:sp>
        <p:nvSpPr>
          <p:cNvPr id="78" name="Title 1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Verdana"/>
              </a:rPr>
              <a:t>NAMING AC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31"/>
          <p:cNvSpPr/>
          <p:nvPr/>
        </p:nvSpPr>
        <p:spPr>
          <a:xfrm>
            <a:off x="6284880" y="990720"/>
            <a:ext cx="420840" cy="609480"/>
          </a:xfrm>
          <a:custGeom>
            <a:avLst/>
            <a:gdLst>
              <a:gd name="textAreaLeft" fmla="*/ 0 w 420840"/>
              <a:gd name="textAreaRight" fmla="*/ 421200 w 42084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728" h="1056">
                <a:moveTo>
                  <a:pt x="288" y="496"/>
                </a:moveTo>
                <a:cubicBezTo>
                  <a:pt x="296" y="472"/>
                  <a:pt x="192" y="288"/>
                  <a:pt x="192" y="208"/>
                </a:cubicBezTo>
                <a:cubicBezTo>
                  <a:pt x="192" y="128"/>
                  <a:pt x="256" y="0"/>
                  <a:pt x="288" y="16"/>
                </a:cubicBezTo>
                <a:cubicBezTo>
                  <a:pt x="320" y="32"/>
                  <a:pt x="368" y="216"/>
                  <a:pt x="384" y="304"/>
                </a:cubicBezTo>
                <a:cubicBezTo>
                  <a:pt x="400" y="392"/>
                  <a:pt x="344" y="552"/>
                  <a:pt x="384" y="544"/>
                </a:cubicBezTo>
                <a:cubicBezTo>
                  <a:pt x="424" y="536"/>
                  <a:pt x="576" y="272"/>
                  <a:pt x="624" y="256"/>
                </a:cubicBezTo>
                <a:cubicBezTo>
                  <a:pt x="672" y="240"/>
                  <a:pt x="704" y="384"/>
                  <a:pt x="672" y="448"/>
                </a:cubicBezTo>
                <a:cubicBezTo>
                  <a:pt x="640" y="512"/>
                  <a:pt x="424" y="560"/>
                  <a:pt x="432" y="640"/>
                </a:cubicBezTo>
                <a:cubicBezTo>
                  <a:pt x="440" y="720"/>
                  <a:pt x="728" y="864"/>
                  <a:pt x="720" y="928"/>
                </a:cubicBezTo>
                <a:cubicBezTo>
                  <a:pt x="712" y="992"/>
                  <a:pt x="448" y="1056"/>
                  <a:pt x="384" y="1024"/>
                </a:cubicBezTo>
                <a:cubicBezTo>
                  <a:pt x="320" y="992"/>
                  <a:pt x="384" y="760"/>
                  <a:pt x="336" y="736"/>
                </a:cubicBezTo>
                <a:cubicBezTo>
                  <a:pt x="288" y="712"/>
                  <a:pt x="144" y="888"/>
                  <a:pt x="96" y="880"/>
                </a:cubicBezTo>
                <a:cubicBezTo>
                  <a:pt x="48" y="872"/>
                  <a:pt x="40" y="728"/>
                  <a:pt x="48" y="688"/>
                </a:cubicBezTo>
                <a:cubicBezTo>
                  <a:pt x="56" y="648"/>
                  <a:pt x="152" y="664"/>
                  <a:pt x="144" y="640"/>
                </a:cubicBezTo>
                <a:cubicBezTo>
                  <a:pt x="136" y="616"/>
                  <a:pt x="0" y="592"/>
                  <a:pt x="0" y="544"/>
                </a:cubicBezTo>
                <a:cubicBezTo>
                  <a:pt x="0" y="496"/>
                  <a:pt x="96" y="360"/>
                  <a:pt x="144" y="352"/>
                </a:cubicBezTo>
                <a:cubicBezTo>
                  <a:pt x="192" y="344"/>
                  <a:pt x="280" y="520"/>
                  <a:pt x="288" y="496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32"/>
          <p:cNvSpPr/>
          <p:nvPr/>
        </p:nvSpPr>
        <p:spPr>
          <a:xfrm>
            <a:off x="2438280" y="1143000"/>
            <a:ext cx="339840" cy="343080"/>
          </a:xfrm>
          <a:custGeom>
            <a:avLst/>
            <a:gdLst>
              <a:gd name="textAreaLeft" fmla="*/ 0 w 339840"/>
              <a:gd name="textAreaRight" fmla="*/ 340200 w 339840"/>
              <a:gd name="textAreaTop" fmla="*/ 0 h 343080"/>
              <a:gd name="textAreaBottom" fmla="*/ 343440 h 343080"/>
            </a:gdLst>
            <a:ahLst/>
            <a:rect l="textAreaLeft" t="textAreaTop" r="textAreaRight" b="textAreaBottom"/>
            <a:pathLst>
              <a:path w="2112" h="2120">
                <a:moveTo>
                  <a:pt x="856" y="800"/>
                </a:moveTo>
                <a:cubicBezTo>
                  <a:pt x="744" y="840"/>
                  <a:pt x="584" y="360"/>
                  <a:pt x="472" y="320"/>
                </a:cubicBezTo>
                <a:cubicBezTo>
                  <a:pt x="360" y="280"/>
                  <a:pt x="160" y="456"/>
                  <a:pt x="184" y="560"/>
                </a:cubicBezTo>
                <a:cubicBezTo>
                  <a:pt x="208" y="664"/>
                  <a:pt x="640" y="792"/>
                  <a:pt x="616" y="944"/>
                </a:cubicBezTo>
                <a:cubicBezTo>
                  <a:pt x="592" y="1096"/>
                  <a:pt x="80" y="1344"/>
                  <a:pt x="40" y="1472"/>
                </a:cubicBezTo>
                <a:cubicBezTo>
                  <a:pt x="0" y="1600"/>
                  <a:pt x="256" y="1768"/>
                  <a:pt x="376" y="1712"/>
                </a:cubicBezTo>
                <a:cubicBezTo>
                  <a:pt x="496" y="1656"/>
                  <a:pt x="624" y="1080"/>
                  <a:pt x="760" y="1136"/>
                </a:cubicBezTo>
                <a:cubicBezTo>
                  <a:pt x="896" y="1192"/>
                  <a:pt x="1032" y="1976"/>
                  <a:pt x="1192" y="2048"/>
                </a:cubicBezTo>
                <a:cubicBezTo>
                  <a:pt x="1352" y="2120"/>
                  <a:pt x="1736" y="1720"/>
                  <a:pt x="1720" y="1568"/>
                </a:cubicBezTo>
                <a:cubicBezTo>
                  <a:pt x="1704" y="1416"/>
                  <a:pt x="1056" y="1200"/>
                  <a:pt x="1096" y="1136"/>
                </a:cubicBezTo>
                <a:cubicBezTo>
                  <a:pt x="1136" y="1072"/>
                  <a:pt x="1816" y="1240"/>
                  <a:pt x="1960" y="1184"/>
                </a:cubicBezTo>
                <a:cubicBezTo>
                  <a:pt x="2104" y="1128"/>
                  <a:pt x="2112" y="848"/>
                  <a:pt x="1960" y="800"/>
                </a:cubicBezTo>
                <a:cubicBezTo>
                  <a:pt x="1808" y="752"/>
                  <a:pt x="1128" y="976"/>
                  <a:pt x="1048" y="896"/>
                </a:cubicBezTo>
                <a:cubicBezTo>
                  <a:pt x="968" y="816"/>
                  <a:pt x="1464" y="456"/>
                  <a:pt x="1480" y="320"/>
                </a:cubicBezTo>
                <a:cubicBezTo>
                  <a:pt x="1496" y="184"/>
                  <a:pt x="1240" y="0"/>
                  <a:pt x="1144" y="80"/>
                </a:cubicBezTo>
                <a:cubicBezTo>
                  <a:pt x="1048" y="160"/>
                  <a:pt x="968" y="760"/>
                  <a:pt x="856" y="800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3"/>
          <p:cNvSpPr/>
          <p:nvPr/>
        </p:nvSpPr>
        <p:spPr>
          <a:xfrm>
            <a:off x="2209680" y="21780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hloric ac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4"/>
          <p:cNvSpPr/>
          <p:nvPr/>
        </p:nvSpPr>
        <p:spPr>
          <a:xfrm flipH="1">
            <a:off x="3886200" y="2819520"/>
            <a:ext cx="1905120" cy="15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5"/>
          <p:cNvSpPr/>
          <p:nvPr/>
        </p:nvSpPr>
        <p:spPr>
          <a:xfrm>
            <a:off x="4116240" y="2819520"/>
            <a:ext cx="1903680" cy="14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4800600" y="4495680"/>
            <a:ext cx="27432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ClO</a:t>
            </a:r>
            <a:r>
              <a:rPr b="1" lang="en-US" sz="48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2438280" y="449568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3595320" y="42624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5951160" y="42908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3765960" y="42768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6084000" y="42768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2362320" y="5805360"/>
            <a:ext cx="52578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Verdana"/>
              </a:rPr>
              <a:t>= HClO</a:t>
            </a:r>
            <a:r>
              <a:rPr b="1" lang="en-US" sz="4800" spc="-1" strike="noStrike" baseline="-25000">
                <a:solidFill>
                  <a:srgbClr val="ff0000"/>
                </a:solidFill>
                <a:latin typeface="Verdana"/>
              </a:rPr>
              <a:t>3(aq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itle 1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Verdana"/>
              </a:rPr>
              <a:t>NAMING AC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5"/>
          <p:cNvSpPr/>
          <p:nvPr/>
        </p:nvSpPr>
        <p:spPr>
          <a:xfrm>
            <a:off x="-291960" y="990720"/>
            <a:ext cx="798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2) Writing the chemical formul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6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2.48555E-006 L 0.34965 0.10659 E">
                                      <p:cBhvr>
                                        <p:cTn id="120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33526E-006 L -0.21632 0.10243 E">
                                      <p:cBhvr>
                                        <p:cTn id="124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560" y="66348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Verdana"/>
              </a:rPr>
              <a:t>OXOAC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0" y="1827360"/>
            <a:ext cx="890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polyatomic ion ends in “ite”, use “–ous” for the acid an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0" y="2595600"/>
          <a:ext cx="9144000" cy="3179880"/>
        </p:xfrm>
        <a:graphic>
          <a:graphicData uri="http://schemas.openxmlformats.org/drawingml/2006/table">
            <a:tbl>
              <a:tblPr/>
              <a:tblGrid>
                <a:gridCol w="2362320"/>
                <a:gridCol w="2895480"/>
                <a:gridCol w="38862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lyatomic ion nam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a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id anion nam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a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ac"/>
                    </a:solidFill>
                  </a:tcPr>
                </a:tc>
              </a:tr>
              <a:tr h="61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lfi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lfur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lfurous ac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8c8"/>
                    </a:solidFill>
                  </a:tcPr>
                </a:tc>
              </a:tr>
              <a:tr h="61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lori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lor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Cl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chlorous ac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8c8"/>
                    </a:solidFill>
                  </a:tcPr>
                </a:tc>
              </a:tr>
              <a:tr h="620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rboni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rbon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carbonous ac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8c8"/>
                    </a:solidFill>
                  </a:tcPr>
                </a:tc>
              </a:tr>
              <a:tr h="61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sphi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sphor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sphorous ac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ef8c8"/>
                    </a:solidFill>
                  </a:tcPr>
                </a:tc>
              </a:tr>
            </a:tbl>
          </a:graphicData>
        </a:graphic>
      </p:graphicFrame>
      <p:sp>
        <p:nvSpPr>
          <p:cNvPr id="97" name="Title 1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Verdana"/>
              </a:rPr>
              <a:t>NAMING AC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31"/>
          <p:cNvSpPr/>
          <p:nvPr/>
        </p:nvSpPr>
        <p:spPr>
          <a:xfrm>
            <a:off x="6361200" y="990720"/>
            <a:ext cx="420480" cy="609480"/>
          </a:xfrm>
          <a:custGeom>
            <a:avLst/>
            <a:gdLst>
              <a:gd name="textAreaLeft" fmla="*/ 0 w 420480"/>
              <a:gd name="textAreaRight" fmla="*/ 420840 w 420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728" h="1056">
                <a:moveTo>
                  <a:pt x="288" y="496"/>
                </a:moveTo>
                <a:cubicBezTo>
                  <a:pt x="296" y="472"/>
                  <a:pt x="192" y="288"/>
                  <a:pt x="192" y="208"/>
                </a:cubicBezTo>
                <a:cubicBezTo>
                  <a:pt x="192" y="128"/>
                  <a:pt x="256" y="0"/>
                  <a:pt x="288" y="16"/>
                </a:cubicBezTo>
                <a:cubicBezTo>
                  <a:pt x="320" y="32"/>
                  <a:pt x="368" y="216"/>
                  <a:pt x="384" y="304"/>
                </a:cubicBezTo>
                <a:cubicBezTo>
                  <a:pt x="400" y="392"/>
                  <a:pt x="344" y="552"/>
                  <a:pt x="384" y="544"/>
                </a:cubicBezTo>
                <a:cubicBezTo>
                  <a:pt x="424" y="536"/>
                  <a:pt x="576" y="272"/>
                  <a:pt x="624" y="256"/>
                </a:cubicBezTo>
                <a:cubicBezTo>
                  <a:pt x="672" y="240"/>
                  <a:pt x="704" y="384"/>
                  <a:pt x="672" y="448"/>
                </a:cubicBezTo>
                <a:cubicBezTo>
                  <a:pt x="640" y="512"/>
                  <a:pt x="424" y="560"/>
                  <a:pt x="432" y="640"/>
                </a:cubicBezTo>
                <a:cubicBezTo>
                  <a:pt x="440" y="720"/>
                  <a:pt x="728" y="864"/>
                  <a:pt x="720" y="928"/>
                </a:cubicBezTo>
                <a:cubicBezTo>
                  <a:pt x="712" y="992"/>
                  <a:pt x="448" y="1056"/>
                  <a:pt x="384" y="1024"/>
                </a:cubicBezTo>
                <a:cubicBezTo>
                  <a:pt x="320" y="992"/>
                  <a:pt x="384" y="760"/>
                  <a:pt x="336" y="736"/>
                </a:cubicBezTo>
                <a:cubicBezTo>
                  <a:pt x="288" y="712"/>
                  <a:pt x="144" y="888"/>
                  <a:pt x="96" y="880"/>
                </a:cubicBezTo>
                <a:cubicBezTo>
                  <a:pt x="48" y="872"/>
                  <a:pt x="40" y="728"/>
                  <a:pt x="48" y="688"/>
                </a:cubicBezTo>
                <a:cubicBezTo>
                  <a:pt x="56" y="648"/>
                  <a:pt x="152" y="664"/>
                  <a:pt x="144" y="640"/>
                </a:cubicBezTo>
                <a:cubicBezTo>
                  <a:pt x="136" y="616"/>
                  <a:pt x="0" y="592"/>
                  <a:pt x="0" y="544"/>
                </a:cubicBezTo>
                <a:cubicBezTo>
                  <a:pt x="0" y="496"/>
                  <a:pt x="96" y="360"/>
                  <a:pt x="144" y="352"/>
                </a:cubicBezTo>
                <a:cubicBezTo>
                  <a:pt x="192" y="344"/>
                  <a:pt x="280" y="520"/>
                  <a:pt x="288" y="496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32"/>
          <p:cNvSpPr/>
          <p:nvPr/>
        </p:nvSpPr>
        <p:spPr>
          <a:xfrm>
            <a:off x="2438280" y="1143000"/>
            <a:ext cx="339840" cy="343080"/>
          </a:xfrm>
          <a:custGeom>
            <a:avLst/>
            <a:gdLst>
              <a:gd name="textAreaLeft" fmla="*/ 0 w 339840"/>
              <a:gd name="textAreaRight" fmla="*/ 340200 w 339840"/>
              <a:gd name="textAreaTop" fmla="*/ 0 h 343080"/>
              <a:gd name="textAreaBottom" fmla="*/ 343440 h 343080"/>
            </a:gdLst>
            <a:ahLst/>
            <a:rect l="textAreaLeft" t="textAreaTop" r="textAreaRight" b="textAreaBottom"/>
            <a:pathLst>
              <a:path w="2112" h="2120">
                <a:moveTo>
                  <a:pt x="856" y="800"/>
                </a:moveTo>
                <a:cubicBezTo>
                  <a:pt x="744" y="840"/>
                  <a:pt x="584" y="360"/>
                  <a:pt x="472" y="320"/>
                </a:cubicBezTo>
                <a:cubicBezTo>
                  <a:pt x="360" y="280"/>
                  <a:pt x="160" y="456"/>
                  <a:pt x="184" y="560"/>
                </a:cubicBezTo>
                <a:cubicBezTo>
                  <a:pt x="208" y="664"/>
                  <a:pt x="640" y="792"/>
                  <a:pt x="616" y="944"/>
                </a:cubicBezTo>
                <a:cubicBezTo>
                  <a:pt x="592" y="1096"/>
                  <a:pt x="80" y="1344"/>
                  <a:pt x="40" y="1472"/>
                </a:cubicBezTo>
                <a:cubicBezTo>
                  <a:pt x="0" y="1600"/>
                  <a:pt x="256" y="1768"/>
                  <a:pt x="376" y="1712"/>
                </a:cubicBezTo>
                <a:cubicBezTo>
                  <a:pt x="496" y="1656"/>
                  <a:pt x="624" y="1080"/>
                  <a:pt x="760" y="1136"/>
                </a:cubicBezTo>
                <a:cubicBezTo>
                  <a:pt x="896" y="1192"/>
                  <a:pt x="1032" y="1976"/>
                  <a:pt x="1192" y="2048"/>
                </a:cubicBezTo>
                <a:cubicBezTo>
                  <a:pt x="1352" y="2120"/>
                  <a:pt x="1736" y="1720"/>
                  <a:pt x="1720" y="1568"/>
                </a:cubicBezTo>
                <a:cubicBezTo>
                  <a:pt x="1704" y="1416"/>
                  <a:pt x="1056" y="1200"/>
                  <a:pt x="1096" y="1136"/>
                </a:cubicBezTo>
                <a:cubicBezTo>
                  <a:pt x="1136" y="1072"/>
                  <a:pt x="1816" y="1240"/>
                  <a:pt x="1960" y="1184"/>
                </a:cubicBezTo>
                <a:cubicBezTo>
                  <a:pt x="2104" y="1128"/>
                  <a:pt x="2112" y="848"/>
                  <a:pt x="1960" y="800"/>
                </a:cubicBezTo>
                <a:cubicBezTo>
                  <a:pt x="1808" y="752"/>
                  <a:pt x="1128" y="976"/>
                  <a:pt x="1048" y="896"/>
                </a:cubicBezTo>
                <a:cubicBezTo>
                  <a:pt x="968" y="816"/>
                  <a:pt x="1464" y="456"/>
                  <a:pt x="1480" y="320"/>
                </a:cubicBezTo>
                <a:cubicBezTo>
                  <a:pt x="1496" y="184"/>
                  <a:pt x="1240" y="0"/>
                  <a:pt x="1144" y="80"/>
                </a:cubicBezTo>
                <a:cubicBezTo>
                  <a:pt x="1048" y="160"/>
                  <a:pt x="968" y="760"/>
                  <a:pt x="856" y="800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3"/>
          <p:cNvSpPr/>
          <p:nvPr/>
        </p:nvSpPr>
        <p:spPr>
          <a:xfrm>
            <a:off x="2209680" y="21780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hlorous ac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4"/>
          <p:cNvSpPr/>
          <p:nvPr/>
        </p:nvSpPr>
        <p:spPr>
          <a:xfrm flipH="1">
            <a:off x="3886200" y="2819520"/>
            <a:ext cx="1905120" cy="15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5"/>
          <p:cNvSpPr/>
          <p:nvPr/>
        </p:nvSpPr>
        <p:spPr>
          <a:xfrm>
            <a:off x="4116240" y="2819520"/>
            <a:ext cx="1903680" cy="14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4800600" y="4495680"/>
            <a:ext cx="27432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ClO</a:t>
            </a:r>
            <a:r>
              <a:rPr b="1" lang="en-US" sz="4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2438280" y="449568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3595320" y="42624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5951160" y="42908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3765960" y="42768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6084000" y="42768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2362320" y="5805360"/>
            <a:ext cx="52578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Verdana"/>
              </a:rPr>
              <a:t>= HClO</a:t>
            </a:r>
            <a:r>
              <a:rPr b="1" lang="en-US" sz="4800" spc="-1" strike="noStrike" baseline="-25000">
                <a:solidFill>
                  <a:srgbClr val="ff0000"/>
                </a:solidFill>
                <a:latin typeface="Verdana"/>
              </a:rPr>
              <a:t>2(aq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itle 1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Verdana"/>
              </a:rPr>
              <a:t>NAMING AC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-291960" y="990720"/>
            <a:ext cx="798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2) Writing the chemical formul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6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2.48555E-006 L 0.34965 0.10659 E">
                                      <p:cBhvr>
                                        <p:cTn id="160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33526E-006 L -0.21632 0.10243 E">
                                      <p:cBhvr>
                                        <p:cTn id="164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7T18:51:37Z</dcterms:created>
  <dc:creator>User</dc:creator>
  <dc:description/>
  <dc:language>en-US</dc:language>
  <cp:lastModifiedBy>rubina khan</cp:lastModifiedBy>
  <dcterms:modified xsi:type="dcterms:W3CDTF">2016-09-29T02:30:04Z</dcterms:modified>
  <cp:revision>103</cp:revision>
  <dc:subject/>
  <dc:title>Naming and Formula Writing</dc:title>
</cp:coreProperties>
</file>